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135-A443-44EC-9935-F3CCA0BF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14D-A344-4B11-8C13-2E3AB2AE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293-5693-4B88-B07C-E0B4FBD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DC0-3E8C-40A3-95C9-88CCE656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56B-6E0D-4570-B97B-EA386F8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07C-EAF9-46F7-AC65-9BF66D2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20D-AC84-4832-B243-10BD3F93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44C-64C6-46C9-9547-F14C9E6D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623-93E8-4DDA-8BBD-F7B75B9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16B-338B-4CAD-ABF5-08E7B40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ECD-227D-4CA6-AECD-2028CE5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C13-C5BE-40AE-AD89-9BB411F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0D65-00A4-4E57-A4D7-1E4C63481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6668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s égalité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marquabl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Auteur J.F.FOU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80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 moins détail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447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+ 6x)( 2 –6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6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981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a + b ) ( a – b ) = a ² - b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2819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- 9x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429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a - b ) ²= a ² - 2 a b + b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81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114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²+ 10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800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a + b ) ²= a ² + 2 a b + b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0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80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encore moins détail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447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3y- 6x)( 3y +6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y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6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2819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1- 5x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25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4114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3x²+ y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6x²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y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plus délic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447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/2+ 1)( x/2 -1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819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/2- 5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4114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3/2 + x 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de plus en plus délic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4479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/2+ 1/3)( x/2 –1/3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16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012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819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/2- 2/3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4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0384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x/3 + 1/4 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4038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x²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4038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4038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de plus en plus délic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371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3 – 2x)( 2x + 3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209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 - 2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895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 - x 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8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443376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- x - 3 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433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4433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4433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- x + 2 ) 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334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- 4 + 2x)(  - 4 – 2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5334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15200" y="5334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0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16 – 9y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350532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( a – b)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1337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 - 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2743200"/>
            <a:ext cx="5181480" cy="1968480"/>
            <a:chOff x="1219320" y="2743200"/>
            <a:chExt cx="5181480" cy="1968480"/>
          </a:xfrm>
        </p:grpSpPr>
        <p:sp>
          <p:nvSpPr>
            <p:cNvPr id="307" name=""/>
            <p:cNvSpPr/>
            <p:nvPr/>
          </p:nvSpPr>
          <p:spPr>
            <a:xfrm>
              <a:off x="12193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19320" y="4191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276720" y="2666880"/>
            <a:ext cx="5486400" cy="2044800"/>
            <a:chOff x="3276720" y="2666880"/>
            <a:chExt cx="5486400" cy="2044800"/>
          </a:xfrm>
        </p:grpSpPr>
        <p:sp>
          <p:nvSpPr>
            <p:cNvPr id="311" name=""/>
            <p:cNvSpPr/>
            <p:nvPr/>
          </p:nvSpPr>
          <p:spPr>
            <a:xfrm>
              <a:off x="3429000" y="2666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24680" y="41911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4191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1600200"/>
            <a:ext cx="8610480" cy="3733920"/>
            <a:chOff x="533520" y="1600200"/>
            <a:chExt cx="8610480" cy="3733920"/>
          </a:xfrm>
        </p:grpSpPr>
        <p:sp>
          <p:nvSpPr>
            <p:cNvPr id="316" name=""/>
            <p:cNvSpPr/>
            <p:nvPr/>
          </p:nvSpPr>
          <p:spPr>
            <a:xfrm>
              <a:off x="533520" y="3352680"/>
              <a:ext cx="8610480" cy="198144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800600" y="1600200"/>
              <a:ext cx="685800" cy="17524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724280" y="1066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4 + 3y ) ( 4 – 3y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x² + 10 x + 2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358128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²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2209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+2ab+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95280" y="2819520"/>
            <a:ext cx="3048120" cy="1968120"/>
            <a:chOff x="1295280" y="2819520"/>
            <a:chExt cx="3048120" cy="1968120"/>
          </a:xfrm>
        </p:grpSpPr>
        <p:sp>
          <p:nvSpPr>
            <p:cNvPr id="327" name=""/>
            <p:cNvSpPr/>
            <p:nvPr/>
          </p:nvSpPr>
          <p:spPr>
            <a:xfrm>
              <a:off x="1295280" y="2819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7652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20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62520" y="2895480"/>
            <a:ext cx="2819160" cy="1892160"/>
            <a:chOff x="3962520" y="2895480"/>
            <a:chExt cx="2819160" cy="1892160"/>
          </a:xfrm>
        </p:grpSpPr>
        <p:sp>
          <p:nvSpPr>
            <p:cNvPr id="331" name=""/>
            <p:cNvSpPr/>
            <p:nvPr/>
          </p:nvSpPr>
          <p:spPr>
            <a:xfrm>
              <a:off x="480060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6252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2448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09480" y="1523880"/>
            <a:ext cx="6019920" cy="3657600"/>
            <a:chOff x="609480" y="1523880"/>
            <a:chExt cx="6019920" cy="3657600"/>
          </a:xfrm>
        </p:grpSpPr>
        <p:sp>
          <p:nvSpPr>
            <p:cNvPr id="336" name=""/>
            <p:cNvSpPr/>
            <p:nvPr/>
          </p:nvSpPr>
          <p:spPr>
            <a:xfrm>
              <a:off x="609480" y="3809880"/>
              <a:ext cx="60199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800600" y="1523880"/>
              <a:ext cx="1600200" cy="2362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63868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x + 5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1066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4x² - 12x + 9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35053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- b)²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133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-2ab+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2743200"/>
            <a:ext cx="2895480" cy="1892160"/>
            <a:chOff x="1219320" y="2743200"/>
            <a:chExt cx="2895480" cy="1892160"/>
          </a:xfrm>
        </p:grpSpPr>
        <p:sp>
          <p:nvSpPr>
            <p:cNvPr id="347" name=""/>
            <p:cNvSpPr/>
            <p:nvPr/>
          </p:nvSpPr>
          <p:spPr>
            <a:xfrm>
              <a:off x="12193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02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657600" y="2743200"/>
            <a:ext cx="2819520" cy="1892160"/>
            <a:chOff x="3657600" y="2743200"/>
            <a:chExt cx="2819520" cy="1892160"/>
          </a:xfrm>
        </p:grpSpPr>
        <p:sp>
          <p:nvSpPr>
            <p:cNvPr id="351" name=""/>
            <p:cNvSpPr/>
            <p:nvPr/>
          </p:nvSpPr>
          <p:spPr>
            <a:xfrm>
              <a:off x="44197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99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600" y="4114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90720" y="1447920"/>
            <a:ext cx="5257800" cy="3733560"/>
            <a:chOff x="990720" y="1447920"/>
            <a:chExt cx="5257800" cy="3733560"/>
          </a:xfrm>
        </p:grpSpPr>
        <p:sp>
          <p:nvSpPr>
            <p:cNvPr id="356" name=""/>
            <p:cNvSpPr/>
            <p:nvPr/>
          </p:nvSpPr>
          <p:spPr>
            <a:xfrm>
              <a:off x="990720" y="3581280"/>
              <a:ext cx="5181480" cy="16002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876920" y="1447920"/>
              <a:ext cx="1371600" cy="22096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410080" y="106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2x – 3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10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4x²  - 36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350532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( a – b)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1337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 - 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219320" y="2743200"/>
            <a:ext cx="5181480" cy="1968480"/>
            <a:chOff x="1219320" y="2743200"/>
            <a:chExt cx="5181480" cy="1968480"/>
          </a:xfrm>
        </p:grpSpPr>
        <p:sp>
          <p:nvSpPr>
            <p:cNvPr id="367" name=""/>
            <p:cNvSpPr/>
            <p:nvPr/>
          </p:nvSpPr>
          <p:spPr>
            <a:xfrm>
              <a:off x="12193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150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19320" y="4191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52680" y="2666880"/>
            <a:ext cx="5486400" cy="2044800"/>
            <a:chOff x="3352680" y="2666880"/>
            <a:chExt cx="5486400" cy="2044800"/>
          </a:xfrm>
        </p:grpSpPr>
        <p:sp>
          <p:nvSpPr>
            <p:cNvPr id="371" name=""/>
            <p:cNvSpPr/>
            <p:nvPr/>
          </p:nvSpPr>
          <p:spPr>
            <a:xfrm>
              <a:off x="3504960" y="2666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0640" y="41911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2680" y="4191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3520" y="1600200"/>
            <a:ext cx="8610480" cy="3733920"/>
            <a:chOff x="533520" y="1600200"/>
            <a:chExt cx="8610480" cy="3733920"/>
          </a:xfrm>
        </p:grpSpPr>
        <p:sp>
          <p:nvSpPr>
            <p:cNvPr id="376" name=""/>
            <p:cNvSpPr/>
            <p:nvPr/>
          </p:nvSpPr>
          <p:spPr>
            <a:xfrm>
              <a:off x="533520" y="3352680"/>
              <a:ext cx="8610480" cy="198144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800600" y="1600200"/>
              <a:ext cx="685800" cy="17524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724280" y="1066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2x + 6 ) ( 2x – 6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9x² + 30 x + 2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358128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²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2209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+2ab+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143000" y="2819520"/>
            <a:ext cx="3429000" cy="1968120"/>
            <a:chOff x="1143000" y="2819520"/>
            <a:chExt cx="3429000" cy="1968120"/>
          </a:xfrm>
        </p:grpSpPr>
        <p:sp>
          <p:nvSpPr>
            <p:cNvPr id="387" name=""/>
            <p:cNvSpPr/>
            <p:nvPr/>
          </p:nvSpPr>
          <p:spPr>
            <a:xfrm>
              <a:off x="1143000" y="2819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24240" y="4267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33920" y="28954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962520" y="2895480"/>
            <a:ext cx="2819160" cy="1892160"/>
            <a:chOff x="3962520" y="2895480"/>
            <a:chExt cx="2819160" cy="1892160"/>
          </a:xfrm>
        </p:grpSpPr>
        <p:sp>
          <p:nvSpPr>
            <p:cNvPr id="391" name=""/>
            <p:cNvSpPr/>
            <p:nvPr/>
          </p:nvSpPr>
          <p:spPr>
            <a:xfrm>
              <a:off x="480060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2448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09480" y="1523880"/>
            <a:ext cx="6019920" cy="3657600"/>
            <a:chOff x="609480" y="1523880"/>
            <a:chExt cx="6019920" cy="3657600"/>
          </a:xfrm>
        </p:grpSpPr>
        <p:sp>
          <p:nvSpPr>
            <p:cNvPr id="396" name=""/>
            <p:cNvSpPr/>
            <p:nvPr/>
          </p:nvSpPr>
          <p:spPr>
            <a:xfrm>
              <a:off x="609480" y="3809880"/>
              <a:ext cx="60199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800600" y="1523880"/>
              <a:ext cx="1600200" cy="23623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63868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3x + 5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trois égalités remarquables dans le se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évelopp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+ b ) ²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+ 2 a b + b 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276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- b ) ²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276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- 2 a b + b 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724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+ b ) ( a – b 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4724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- b 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sans facteur com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1066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49 – 112y + 64y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35053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- b)²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2133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-2ab+b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déli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219320" y="2743200"/>
            <a:ext cx="2895480" cy="1892160"/>
            <a:chOff x="1219320" y="2743200"/>
            <a:chExt cx="2895480" cy="1892160"/>
          </a:xfrm>
        </p:grpSpPr>
        <p:sp>
          <p:nvSpPr>
            <p:cNvPr id="407" name=""/>
            <p:cNvSpPr/>
            <p:nvPr/>
          </p:nvSpPr>
          <p:spPr>
            <a:xfrm>
              <a:off x="12193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0020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2900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657600" y="2743200"/>
            <a:ext cx="3200400" cy="1892160"/>
            <a:chOff x="3657600" y="2743200"/>
            <a:chExt cx="3200400" cy="1892160"/>
          </a:xfrm>
        </p:grpSpPr>
        <p:sp>
          <p:nvSpPr>
            <p:cNvPr id="411" name=""/>
            <p:cNvSpPr/>
            <p:nvPr/>
          </p:nvSpPr>
          <p:spPr>
            <a:xfrm>
              <a:off x="4419720" y="2743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19920" y="2743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90720" y="1447920"/>
            <a:ext cx="5257800" cy="3733560"/>
            <a:chOff x="990720" y="1447920"/>
            <a:chExt cx="5257800" cy="3733560"/>
          </a:xfrm>
        </p:grpSpPr>
        <p:sp>
          <p:nvSpPr>
            <p:cNvPr id="416" name=""/>
            <p:cNvSpPr/>
            <p:nvPr/>
          </p:nvSpPr>
          <p:spPr>
            <a:xfrm>
              <a:off x="990720" y="3581280"/>
              <a:ext cx="5181480" cy="16002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876920" y="1447920"/>
              <a:ext cx="1371600" cy="22096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019920" y="106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7 – 8y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moins détaill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4x² - 3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2x + 6 ) (2x –6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981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² - b² = ( a + b ) ( a – b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819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4 – 36x + 81x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0720" y="3429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² - 2 a b + b ² = ( a - b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2819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2 – 9x)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4114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0x² + 100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4800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² + 2 a b + b ² = ( a + b )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x² + 10 )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encore moins détaill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9y² - 36x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1447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3y + 6x ) ( 3y - 6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2819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1 – 10x + 25x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2819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1 – 5x )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4114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6x²y + y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62720" y="41148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3x² + y )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factorisations plus dé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1447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9x² + 4 + 12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3x + 2 )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2819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 - 16 + 25x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819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5x – 4 ) ( 5x + 4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4114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ser 25 + 16x²+ 20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possible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trois égalités remarquables dans le se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s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057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+ b ) 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+ 2 a b + b ²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276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- b ) 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76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- 2 a b + b ²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724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+ b ) ( a – b 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724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² - b ²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x + 5 ) 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+2ab+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90720" y="2743200"/>
            <a:ext cx="3047760" cy="2044440"/>
            <a:chOff x="990720" y="2743200"/>
            <a:chExt cx="3047760" cy="2044440"/>
          </a:xfrm>
        </p:grpSpPr>
        <p:sp>
          <p:nvSpPr>
            <p:cNvPr id="68" name=""/>
            <p:cNvSpPr/>
            <p:nvPr/>
          </p:nvSpPr>
          <p:spPr>
            <a:xfrm>
              <a:off x="9907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072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276720" y="2666880"/>
            <a:ext cx="3200400" cy="2044800"/>
            <a:chOff x="3276720" y="2666880"/>
            <a:chExt cx="3200400" cy="2044800"/>
          </a:xfrm>
        </p:grpSpPr>
        <p:sp>
          <p:nvSpPr>
            <p:cNvPr id="72" name=""/>
            <p:cNvSpPr/>
            <p:nvPr/>
          </p:nvSpPr>
          <p:spPr>
            <a:xfrm>
              <a:off x="32767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568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1992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1447560"/>
            <a:ext cx="4648320" cy="3581640"/>
            <a:chOff x="457200" y="1447560"/>
            <a:chExt cx="4648320" cy="3581640"/>
          </a:xfrm>
        </p:grpSpPr>
        <p:sp>
          <p:nvSpPr>
            <p:cNvPr id="77" name=""/>
            <p:cNvSpPr/>
            <p:nvPr/>
          </p:nvSpPr>
          <p:spPr>
            <a:xfrm>
              <a:off x="457200" y="3657600"/>
              <a:ext cx="16765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05120" y="1447560"/>
              <a:ext cx="3200400" cy="2514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95288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09680" y="1447560"/>
            <a:ext cx="3810240" cy="3657960"/>
            <a:chOff x="2209680" y="1447560"/>
            <a:chExt cx="3810240" cy="3657960"/>
          </a:xfrm>
        </p:grpSpPr>
        <p:sp>
          <p:nvSpPr>
            <p:cNvPr id="81" name=""/>
            <p:cNvSpPr/>
            <p:nvPr/>
          </p:nvSpPr>
          <p:spPr>
            <a:xfrm>
              <a:off x="2209680" y="3733920"/>
              <a:ext cx="289584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14800" y="1447560"/>
              <a:ext cx="190512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7150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0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4120" y="1447560"/>
            <a:ext cx="2133360" cy="3733920"/>
            <a:chOff x="5334120" y="1447560"/>
            <a:chExt cx="2133360" cy="3733920"/>
          </a:xfrm>
        </p:grpSpPr>
        <p:sp>
          <p:nvSpPr>
            <p:cNvPr id="85" name=""/>
            <p:cNvSpPr/>
            <p:nvPr/>
          </p:nvSpPr>
          <p:spPr>
            <a:xfrm>
              <a:off x="5334120" y="3809880"/>
              <a:ext cx="213336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477120" y="1447560"/>
              <a:ext cx="68580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9343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x - 3 ) 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- b) 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-2ab+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90720" y="2743200"/>
            <a:ext cx="2895480" cy="2044440"/>
            <a:chOff x="990720" y="2743200"/>
            <a:chExt cx="2895480" cy="2044440"/>
          </a:xfrm>
        </p:grpSpPr>
        <p:sp>
          <p:nvSpPr>
            <p:cNvPr id="96" name=""/>
            <p:cNvSpPr/>
            <p:nvPr/>
          </p:nvSpPr>
          <p:spPr>
            <a:xfrm>
              <a:off x="9907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040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971800" y="2666880"/>
            <a:ext cx="3200400" cy="2120760"/>
            <a:chOff x="2971800" y="2666880"/>
            <a:chExt cx="3200400" cy="2120760"/>
          </a:xfrm>
        </p:grpSpPr>
        <p:sp>
          <p:nvSpPr>
            <p:cNvPr id="100" name=""/>
            <p:cNvSpPr/>
            <p:nvPr/>
          </p:nvSpPr>
          <p:spPr>
            <a:xfrm>
              <a:off x="2971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1447560"/>
            <a:ext cx="4648320" cy="3581640"/>
            <a:chOff x="457200" y="1447560"/>
            <a:chExt cx="4648320" cy="3581640"/>
          </a:xfrm>
        </p:grpSpPr>
        <p:sp>
          <p:nvSpPr>
            <p:cNvPr id="105" name=""/>
            <p:cNvSpPr/>
            <p:nvPr/>
          </p:nvSpPr>
          <p:spPr>
            <a:xfrm>
              <a:off x="457200" y="3657600"/>
              <a:ext cx="16765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905120" y="1447560"/>
              <a:ext cx="3200400" cy="2514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95288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x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09680" y="1447560"/>
            <a:ext cx="3810240" cy="3657960"/>
            <a:chOff x="2209680" y="1447560"/>
            <a:chExt cx="3810240" cy="3657960"/>
          </a:xfrm>
        </p:grpSpPr>
        <p:sp>
          <p:nvSpPr>
            <p:cNvPr id="109" name=""/>
            <p:cNvSpPr/>
            <p:nvPr/>
          </p:nvSpPr>
          <p:spPr>
            <a:xfrm>
              <a:off x="2209680" y="3733920"/>
              <a:ext cx="289584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114800" y="1447560"/>
              <a:ext cx="190512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7150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2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4120" y="1447560"/>
            <a:ext cx="2133360" cy="3733920"/>
            <a:chOff x="5334120" y="1447560"/>
            <a:chExt cx="2133360" cy="3733920"/>
          </a:xfrm>
        </p:grpSpPr>
        <p:sp>
          <p:nvSpPr>
            <p:cNvPr id="113" name=""/>
            <p:cNvSpPr/>
            <p:nvPr/>
          </p:nvSpPr>
          <p:spPr>
            <a:xfrm>
              <a:off x="5334120" y="3809880"/>
              <a:ext cx="213336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477120" y="1447560"/>
              <a:ext cx="68580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9343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4+ 3y)( 4 –3y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( a – b)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= a² - 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90720" y="2666880"/>
            <a:ext cx="5257800" cy="2120760"/>
            <a:chOff x="990720" y="2666880"/>
            <a:chExt cx="5257800" cy="2120760"/>
          </a:xfrm>
        </p:grpSpPr>
        <p:sp>
          <p:nvSpPr>
            <p:cNvPr id="124" name=""/>
            <p:cNvSpPr/>
            <p:nvPr/>
          </p:nvSpPr>
          <p:spPr>
            <a:xfrm>
              <a:off x="990720" y="2666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2666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0400" y="2666880"/>
            <a:ext cx="5334120" cy="2044800"/>
            <a:chOff x="3200400" y="2666880"/>
            <a:chExt cx="5334120" cy="2044800"/>
          </a:xfrm>
        </p:grpSpPr>
        <p:sp>
          <p:nvSpPr>
            <p:cNvPr id="128" name=""/>
            <p:cNvSpPr/>
            <p:nvPr/>
          </p:nvSpPr>
          <p:spPr>
            <a:xfrm>
              <a:off x="3200400" y="2666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96080" y="2666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91120" y="4191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2480" y="1371600"/>
            <a:ext cx="4495680" cy="3733560"/>
            <a:chOff x="1752480" y="1371600"/>
            <a:chExt cx="4495680" cy="3733560"/>
          </a:xfrm>
        </p:grpSpPr>
        <p:sp>
          <p:nvSpPr>
            <p:cNvPr id="133" name=""/>
            <p:cNvSpPr/>
            <p:nvPr/>
          </p:nvSpPr>
          <p:spPr>
            <a:xfrm>
              <a:off x="1752480" y="3675240"/>
              <a:ext cx="1621440" cy="142992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152880" y="1371600"/>
              <a:ext cx="3095280" cy="26215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94360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29000" y="1447560"/>
            <a:ext cx="3809520" cy="3657960"/>
            <a:chOff x="3429000" y="1447560"/>
            <a:chExt cx="3809520" cy="3657960"/>
          </a:xfrm>
        </p:grpSpPr>
        <p:sp>
          <p:nvSpPr>
            <p:cNvPr id="137" name=""/>
            <p:cNvSpPr/>
            <p:nvPr/>
          </p:nvSpPr>
          <p:spPr>
            <a:xfrm>
              <a:off x="3429000" y="3733920"/>
              <a:ext cx="289548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33760" y="1447560"/>
              <a:ext cx="190476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6294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9y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3x + 1 ) 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+2ab+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2743200"/>
            <a:ext cx="3504960" cy="2044440"/>
            <a:chOff x="990720" y="2743200"/>
            <a:chExt cx="3504960" cy="2044440"/>
          </a:xfrm>
        </p:grpSpPr>
        <p:sp>
          <p:nvSpPr>
            <p:cNvPr id="148" name=""/>
            <p:cNvSpPr/>
            <p:nvPr/>
          </p:nvSpPr>
          <p:spPr>
            <a:xfrm>
              <a:off x="990720" y="2743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4267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4191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76720" y="2666880"/>
            <a:ext cx="3200400" cy="2044800"/>
            <a:chOff x="3276720" y="2666880"/>
            <a:chExt cx="3200400" cy="2044800"/>
          </a:xfrm>
        </p:grpSpPr>
        <p:sp>
          <p:nvSpPr>
            <p:cNvPr id="152" name=""/>
            <p:cNvSpPr/>
            <p:nvPr/>
          </p:nvSpPr>
          <p:spPr>
            <a:xfrm>
              <a:off x="32767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992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1447560"/>
            <a:ext cx="4648320" cy="3581640"/>
            <a:chOff x="457200" y="1447560"/>
            <a:chExt cx="4648320" cy="3581640"/>
          </a:xfrm>
        </p:grpSpPr>
        <p:sp>
          <p:nvSpPr>
            <p:cNvPr id="157" name=""/>
            <p:cNvSpPr/>
            <p:nvPr/>
          </p:nvSpPr>
          <p:spPr>
            <a:xfrm>
              <a:off x="457200" y="3657600"/>
              <a:ext cx="16765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905120" y="1447560"/>
              <a:ext cx="3200400" cy="2514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10552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x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9680" y="1447560"/>
            <a:ext cx="3810240" cy="3657960"/>
            <a:chOff x="2209680" y="1447560"/>
            <a:chExt cx="3810240" cy="3657960"/>
          </a:xfrm>
        </p:grpSpPr>
        <p:sp>
          <p:nvSpPr>
            <p:cNvPr id="161" name=""/>
            <p:cNvSpPr/>
            <p:nvPr/>
          </p:nvSpPr>
          <p:spPr>
            <a:xfrm>
              <a:off x="2209680" y="3733920"/>
              <a:ext cx="289584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14800" y="1447560"/>
              <a:ext cx="190512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7150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6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4120" y="1447560"/>
            <a:ext cx="2133360" cy="3733920"/>
            <a:chOff x="5334120" y="1447560"/>
            <a:chExt cx="2133360" cy="3733920"/>
          </a:xfrm>
        </p:grpSpPr>
        <p:sp>
          <p:nvSpPr>
            <p:cNvPr id="165" name=""/>
            <p:cNvSpPr/>
            <p:nvPr/>
          </p:nvSpPr>
          <p:spPr>
            <a:xfrm>
              <a:off x="5334120" y="3809880"/>
              <a:ext cx="213336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77120" y="1447560"/>
              <a:ext cx="68580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9343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5x - 4 ) ²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- b) ²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a²-2ab+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90720" y="2743200"/>
            <a:ext cx="2895480" cy="2044440"/>
            <a:chOff x="990720" y="2743200"/>
            <a:chExt cx="2895480" cy="2044440"/>
          </a:xfrm>
        </p:grpSpPr>
        <p:sp>
          <p:nvSpPr>
            <p:cNvPr id="176" name=""/>
            <p:cNvSpPr/>
            <p:nvPr/>
          </p:nvSpPr>
          <p:spPr>
            <a:xfrm>
              <a:off x="990720" y="2743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971800" y="2666880"/>
            <a:ext cx="3200400" cy="2120760"/>
            <a:chOff x="2971800" y="2666880"/>
            <a:chExt cx="3200400" cy="2120760"/>
          </a:xfrm>
        </p:grpSpPr>
        <p:sp>
          <p:nvSpPr>
            <p:cNvPr id="180" name=""/>
            <p:cNvSpPr/>
            <p:nvPr/>
          </p:nvSpPr>
          <p:spPr>
            <a:xfrm>
              <a:off x="2971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1447560"/>
            <a:ext cx="4648320" cy="3581640"/>
            <a:chOff x="457200" y="1447560"/>
            <a:chExt cx="4648320" cy="3581640"/>
          </a:xfrm>
        </p:grpSpPr>
        <p:sp>
          <p:nvSpPr>
            <p:cNvPr id="185" name=""/>
            <p:cNvSpPr/>
            <p:nvPr/>
          </p:nvSpPr>
          <p:spPr>
            <a:xfrm>
              <a:off x="457200" y="3657600"/>
              <a:ext cx="167652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905120" y="1447560"/>
              <a:ext cx="3200400" cy="25146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952880" y="990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x 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09680" y="1447560"/>
            <a:ext cx="3810240" cy="3657960"/>
            <a:chOff x="2209680" y="1447560"/>
            <a:chExt cx="3810240" cy="3657960"/>
          </a:xfrm>
        </p:grpSpPr>
        <p:sp>
          <p:nvSpPr>
            <p:cNvPr id="189" name=""/>
            <p:cNvSpPr/>
            <p:nvPr/>
          </p:nvSpPr>
          <p:spPr>
            <a:xfrm>
              <a:off x="2209680" y="3733920"/>
              <a:ext cx="289584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114800" y="1447560"/>
              <a:ext cx="190512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9436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40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4120" y="1447560"/>
            <a:ext cx="2133360" cy="3733920"/>
            <a:chOff x="5334120" y="1447560"/>
            <a:chExt cx="2133360" cy="3733920"/>
          </a:xfrm>
        </p:grpSpPr>
        <p:sp>
          <p:nvSpPr>
            <p:cNvPr id="193" name=""/>
            <p:cNvSpPr/>
            <p:nvPr/>
          </p:nvSpPr>
          <p:spPr>
            <a:xfrm>
              <a:off x="5334120" y="3809880"/>
              <a:ext cx="213336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477120" y="1447560"/>
              <a:ext cx="68580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9343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développements accél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90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velopper ( 2x+ 6)( 2x –6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676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quer la bonne égalité et écrire le bon « moule » dans le bons s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0574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(a + b) ( a – b)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581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= a² - b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02920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Garnir le moule » ce qui est fac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90720" y="2666880"/>
            <a:ext cx="5257800" cy="2120760"/>
            <a:chOff x="990720" y="2666880"/>
            <a:chExt cx="5257800" cy="2120760"/>
          </a:xfrm>
        </p:grpSpPr>
        <p:sp>
          <p:nvSpPr>
            <p:cNvPr id="204" name=""/>
            <p:cNvSpPr/>
            <p:nvPr/>
          </p:nvSpPr>
          <p:spPr>
            <a:xfrm>
              <a:off x="990720" y="2666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2666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4267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76720" y="2666880"/>
            <a:ext cx="5333400" cy="2044800"/>
            <a:chOff x="3276720" y="2666880"/>
            <a:chExt cx="5333400" cy="2044800"/>
          </a:xfrm>
        </p:grpSpPr>
        <p:sp>
          <p:nvSpPr>
            <p:cNvPr id="208" name=""/>
            <p:cNvSpPr/>
            <p:nvPr/>
          </p:nvSpPr>
          <p:spPr>
            <a:xfrm>
              <a:off x="3276720" y="266688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2040" y="2666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41911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990720" y="5638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 Démouler » ce qui est plus délic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52480" y="1371600"/>
            <a:ext cx="4495680" cy="3733560"/>
            <a:chOff x="1752480" y="1371600"/>
            <a:chExt cx="4495680" cy="3733560"/>
          </a:xfrm>
        </p:grpSpPr>
        <p:sp>
          <p:nvSpPr>
            <p:cNvPr id="213" name=""/>
            <p:cNvSpPr/>
            <p:nvPr/>
          </p:nvSpPr>
          <p:spPr>
            <a:xfrm>
              <a:off x="1752480" y="3675240"/>
              <a:ext cx="1621440" cy="142992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152880" y="1371600"/>
              <a:ext cx="3095280" cy="26215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94360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x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429000" y="1447560"/>
            <a:ext cx="3809520" cy="3657960"/>
            <a:chOff x="3429000" y="1447560"/>
            <a:chExt cx="3809520" cy="3657960"/>
          </a:xfrm>
        </p:grpSpPr>
        <p:sp>
          <p:nvSpPr>
            <p:cNvPr id="217" name=""/>
            <p:cNvSpPr/>
            <p:nvPr/>
          </p:nvSpPr>
          <p:spPr>
            <a:xfrm>
              <a:off x="3429000" y="3733920"/>
              <a:ext cx="2895480" cy="1371600"/>
            </a:xfrm>
            <a:prstGeom prst="ellipse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333760" y="1447560"/>
              <a:ext cx="1904760" cy="23619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294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1:29:35Z</dcterms:created>
  <dc:creator>Fournel</dc:creator>
  <dc:description/>
  <dc:language>en-US</dc:language>
  <cp:lastModifiedBy>Fournel</cp:lastModifiedBy>
  <dcterms:modified xsi:type="dcterms:W3CDTF">2004-09-30T16:55:42Z</dcterms:modified>
  <cp:revision>5</cp:revision>
  <dc:subject/>
  <dc:title>Présentation PowerPoint</dc:title>
</cp:coreProperties>
</file>